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ECBE-2403-43A9-BF3A-4BB1D4D0F2BE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87BF-2839-4347-8B37-11E217F01252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18CB-EEE4-4192-A517-F60594979E93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3B96-ABD2-4966-BF9F-CC31CCC35F95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ADA3-8672-4665-9806-76210B5B10E0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C00C-EF42-48E8-A324-E3598788A634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472F-0402-4185-9D60-5DAB4115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D074-5614-4071-8D7A-085E52AD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E045-C2DD-4698-BF9F-D17C8E57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0DD6-856C-4708-9B3A-E0CA20C0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D061-28FC-4817-A988-18257375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A03C-6651-4411-8ECE-71FC9628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77E3-91E7-4232-8BB3-C76190A4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037A-9892-4140-8DAE-BF652422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D71B-BC9C-49E6-8BFA-9BFAF7C6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620D-8B4D-4A35-AA0D-7C8BB944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838F-CC81-450E-A07E-272369E5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9D98-CB63-4D2A-BFDB-55C51942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9334-AA23-47FB-B2BC-89876468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4CC5-AAD5-4B57-A129-88AA7D18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A480-2FB5-475A-B3A3-3FA15999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7B2F-AE75-428F-B03C-1B20B7CA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7BA3-0818-4E12-B7A1-4D50977B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69BD9-B9B3-4307-8F0E-6E608EEB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AD617-3FDE-459C-8DFF-FBDBADEA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1ADD2-B0CB-486F-9725-D88DC109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B62B4-9147-4EEE-AA5A-133E5B3B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C75D3-79F7-4B0A-A0CE-496F8697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B05B-003C-40BB-9203-B988C6AD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B6DA2-549B-446B-881F-1EDDB133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D675E-A6DF-4720-9673-3F6C9F54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91B55-1D8A-4C9B-AC59-9B9E830F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6A506-7831-4020-B661-347221FB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A804C-9EDC-4450-86DE-5E2AF8A2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EA7DC-7660-4B6C-BBBA-EF94B587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208D3-5586-4116-858B-EFD7D1DB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4916B-8547-4C18-8ED5-F763AD1E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ED41D-4D99-408D-8FBA-3A42E698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4CCD2-A13B-4BB0-90C8-DDEF9775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2C2-7E78-482C-B471-333F1EC9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8B7AE-31E2-4442-A37E-48E32813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D9EE3-CF99-4BBF-AE60-5E75F6D9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3FBB6-068A-44F8-8C36-09B780BE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1AE9C-DF82-43FA-8F54-B6CA733D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98156-CB7E-4485-AD43-FCEE1A4B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11950-50EA-4D83-A1E4-C26A4BD4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EB738-0D0F-4DF7-A356-871EEDDD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8A964-194A-4E2E-934E-5327104B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757DF-621F-48E8-A8FE-9A608233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6BE16-7AA9-47AA-86F8-80543F27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A067-8870-48DB-952E-24780083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1D091-1B6C-4F76-8F87-64DEDE4D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E3636-D99D-4C48-88DD-255D067C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70509-D4EA-420A-A2E4-DDA1F967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0D4BF-2361-4A2D-A91F-1E153747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82DA9-383E-4EC7-9A80-004CD616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3779A-C5F8-4862-8C32-DAFCAC05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F1437-3BA1-42C4-9BA9-CB7A5835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68023-B5DE-4C77-8BF7-172BC821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20B09-483E-4D4B-A774-63227F45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74DC0-4F31-4639-82DF-30CFBE66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F056-1ED1-43FE-A8CE-5A1597DB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23C71-07EC-49A9-8B7A-47454A5E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65E12-5995-4CE3-912A-A072B13A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4A1D2-C45A-4D58-899E-60DA49EC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716C9-4EFB-4D2A-82FA-C2D339DD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8F041-437B-4F51-8974-F6FB0C8A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0DD07-30C7-458F-8535-FEC54DA9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3A5A2-06D7-4275-A19F-47FA9260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C6840-0BCA-4776-B391-EE40C83F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19FDC-8310-4451-B06B-923929C5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AAC75-CCC4-4DAA-876E-7AD4F45F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73EC-E36F-4F60-9451-294D4805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4B428-5728-4C2D-89D2-299FFBF7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9BAC3-5786-41A0-918F-F639E9CE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867F0-641E-4EA7-A655-6281017B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B3640-40D1-4970-918A-C1F3D1B7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0BFA0-9BE5-4D55-BDFF-629909A5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7F0FD-D01E-4FF9-A633-0985DE8D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5CFEC-24F5-452B-AA07-D277F8D6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B8238-CC6D-4D87-8F02-015BDE72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D678C-5D19-4B3A-8440-01B58328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9CC7B-041E-4753-8EE0-65F85BB9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4F0F-5AD7-45E2-9D96-B0B0204A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06EB3-66FB-4D48-AA9C-67AC7D97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375E5-4A51-486A-BA56-59C00CCB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BF154-E8FD-4DCC-BF34-9A46987E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76D81-7AA0-47E6-B7BD-9D0CBAE0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6FAF8-AE12-4C46-A028-EAF082DA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AC94F-CAF0-4BAA-AE28-ED2B39E3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4C3E6-7CD2-48DA-BF2B-E8BF2F23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C8851-1343-4A24-9575-F23A1C92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3A565-983C-4800-AE52-16748A76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84A55-7CDA-44D1-9FDC-7A9176AB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AF9A-56B6-4C2E-B363-95EE921E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CCADC-7B4D-4F4C-BA3C-37B6D52B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FC8F1-0FF8-4649-8C5A-6096A8A6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1528E-8C39-4DDB-A72B-CA6F9F13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377CD-AA27-42EA-A9F0-2242E77D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E62D1-0F85-47A6-8550-FA5856FF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1703D-9191-41FB-B46D-3C17206E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CE253-6BFB-4AA6-A1FF-0D71D630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uolivapaa piirt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uolivapaa piirt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Suorakulmainen kolmi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Suorakulmainen kolmio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uora yhdysviiv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8268-A83A-470C-B0C9-0C0D90053143}" type="slidenum">
              <a:rPr b="0" lang="fi-FI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uorakulmainen kolmio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d004e"/>
              </a:gs>
              <a:gs pos="50000">
                <a:srgbClr val="ff4192"/>
              </a:gs>
              <a:gs pos="100000">
                <a:srgbClr val="cd004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Ryhmä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Puolivapaa piirto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f9eb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Puolivapaa piirto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Puolivapaa piirto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Puolivapaa piirto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uora yhdysviiva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D45D-840D-4AE5-8447-23DBEF25203C}" type="slidenum">
              <a:rPr b="0" lang="fi-FI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uolivapaa piirt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uolivapaa piirt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Suorakulmainen kolmi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Suorakulmainen kolmi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uora yhdysviiv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Lovettu nuolenkärki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ovettu nuolenkärki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F384-3512-401D-B43D-A402BB39E91C}" type="slidenum">
              <a:rPr b="0" lang="fi-FI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uolivapaa piirt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uolivapaa piirt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Suorakulmainen kolmi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Suorakulmainen kolmi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uora yhdysviiv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181A-03CC-48BB-929A-53701462876B}" type="slidenum">
              <a:rPr b="0" lang="fi-FI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AFFF-B903-47E5-BFFD-F71599641923}" type="slidenum">
              <a:rPr b="0" lang="fi-FI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uolivapaa piirt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uolivapaa piirt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Suorakulmainen kolmi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Suorakulmainen kolmi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uora yhdysviiv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BFE8-D4D6-4F00-913C-E38D36A587F7}" type="slidenum">
              <a:rPr b="0" lang="fi-FI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0C32-713C-4942-9BF2-E344EA1BF6A8}" type="slidenum">
              <a:rPr b="0" lang="fi-FI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uolivapaa piirto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uolivapaa piirto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Suorakulmainen kolmio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Suorakulmainen kolmio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uora yhdysviiva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Lovettu nuolenkärki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ovettu nuolenkärki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6512-FC65-417E-B076-168F8C515FFF}" type="slidenum">
              <a:rPr b="0" lang="fi-FI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Otsikko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2700" spc="-1" strike="noStrike">
              <a:solidFill>
                <a:srgbClr val="6666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Lucida Sans Unicode"/>
              </a:rPr>
              <a:t>Kansantaudeilla tarkoitetaan sellaisia sairauksia, jotka ovat koko väestön terveyden, kansanterveyden, kannalta merkittäviä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Lucida Sans Unicode"/>
              </a:rPr>
              <a:t>Ne kuluttavat yleensä paljon terveydenhuollon voimavaroja ja aiheuttavat työkyvyttömyyttä, joten niillä on suuri taloudellinen merkity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Lucida Sans Unicode"/>
              </a:rPr>
              <a:t>Kansantauteihin ovat syynä muun muassa elämäntapa, sisäsiittoisuus, geeniperimä ja saastee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4100" spc="-1" strike="noStrike">
              <a:solidFill>
                <a:srgbClr val="6666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Verenpaineella tarkoitetaan valtimoissa olevaa painetta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Verenpaine pitää veren liikkeessä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Pysyvästi kohonnut verenpaine on maamme yleisin terveysrisk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Normaali yläpaine alle 130 ja alipaine alle 85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Verenpaine on koholla, kun yläarvo on 140 tai ala-arvo yli 90 tai näitä korkeampi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Kohonnut verenpaine vahingoittaa valtimoita ja aiheuttaa aivohalvauksia ja sydäninfarkteja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Verenpainetta voi jokainen alentaa vähentämällä suolaa ja liikkumalla riittävästi, tupakoitsija lopettamalla ja ylipainoinen laihduttamalla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Jos omat keinot eivät laske verenpainetta riittävästi, tarvitaan verenpainelääkkeitä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Otsikko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Eri puolilla kehoamme solut lisääntyvät jatkuvast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Joskus solut jakaantuvat  hallitsemattomasti. Jos valkosolut eivät onnistu lopettamaan jakautumista, niistä kasvaa solukasaumia. Näin saa alkunsa kasvai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Hyvänlaatuinen kasvain pysähtyy kasvussaan, kun taas pahanlaatuinen kasvain ,eli syöpä, jatkaa kasvuaan ja tunkeutuu eri kudoksii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Syövän yleisin aiheuttaja on tupakka. Myös passiivinen tupakointi lisää syövän riskiä huomattavast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Myös ruokavalio ja elämäntavat voivat edesauttaa syövän syntymistä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Otsikko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556E-017 -3.33333E-006 C -0.00764 0.01366 -0.01007 0.02986 -0.01667 0.04445 C -0.02049 0.06389 -0.03316 0.07755 -0.04167 0.09352 C -0.04531 0.10023 -0.04687 0.1088 -0.05 0.11574 C -0.05538 0.12778 -0.0625 0.14121 -0.06997 0.15116 C -0.07257 0.16111 -0.07587 0.1588 -0.0783 0.16898 C -0.04201 0.19306 -0.02708 0.17477 0.03333 0.17338 C 0.05608 0.17107 0.06771 0.16945 0.09167 0.1713 C 0.09983 0.1757 0.10469 0.17986 0.11163 0.18681 C 0.10781 0.20348 0.0901 0.2007 0.08003 0.20672 C 0.02865 0.23727 -0.03976 0.23426 -0.0934 0.23565 C -0.10122 0.23912 -0.10885 0.24329 -0.11667 0.24676 C -0.11111 0.21135 -0.06806 0.20255 -0.04826 0.19352 C -0.03281 0.18635 -0.01597 0.18727 -2.77556E-017 0.18241 C 0.03264 0.17246 0.06337 0.16667 0.0967 0.16227 C 0.11615 0.15973 0.1309 0.15672 0.15 0.15116 C 0.15677 0.14931 0.16997 0.14445 0.16997 0.14445 C 0.16059 0.10672 0.17326 0.1544 0.16163 0.12014 C 0.15816 0.10973 0.15642 0.10093 0.15174 0.09121 C 0.15052 0.08449 0.15 0.07778 0.14826 0.0713 C 0.14722 0.06736 0.14531 0.06366 0.1434 0.06019 C 0.14253 0.05834 0.13993 0.05556 0.13993 0.05556 L 0.13507 0.01783 L 0.13003 -0.0243 L 0.00503 0.02454 E">
                                      <p:cBhvr>
                                        <p:cTn id="88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2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Joka toinen meistä kärsii jossain elämänsä vaiheessa allergian aiheuttamista oireista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Kun ihmisen elimistöön pääsee vieraita aineita, kuten viruksia, bakteereja tai myrkyllisiä aineita, se puolustautuu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Allergisen ihmisen immuunijärjestelmä toimii epätarkoituksenmukaisesti ja elimistö puolustautuu sinänsä harmittomia aineita, kuten siitepölyä tai ruoka-aineita vastaan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Allergiaa aiheuttavat mm.siitepöly ja eläinten hilse ja jätteet. Myös eri ruuat voivat aiheuttaa allergisia reaktioita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Allergia on yleistymässä, koska ympärillämme on ärsykkeitä aiheuttavia kemikaaleja yhä enemmä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Otsikko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6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6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6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6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6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6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6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6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6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4:40:21Z</dcterms:created>
  <dc:creator>Ritva Tamminen</dc:creator>
  <dc:description/>
  <dc:language>en-US</dc:language>
  <cp:lastModifiedBy>Ritva Tamminen</cp:lastModifiedBy>
  <dcterms:modified xsi:type="dcterms:W3CDTF">2010-02-07T15:29:43Z</dcterms:modified>
  <cp:revision>4</cp:revision>
  <dc:subject/>
  <dc:title>Kansantaudit</dc:title>
</cp:coreProperties>
</file>